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A799-C56C-431B-80B8-D1534AFC1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4398840"/>
            <a:ext cx="8785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DE2B-A75C-444E-8F48-9E6B120A1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439884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39884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0556-F549-4E8C-B44A-CFC3C7B7E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191628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191628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439884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439884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439884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D20C-DB00-48EB-B38F-90C3F7162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5D53A-F154-46CD-BA62-63690C56B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4216A-DEF9-4561-830C-DCBE8FDCF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2A1F7-BB8B-45D8-8A5D-DDCC6CE53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41196-D0A3-44F6-A31A-9F3C4F4B5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24184-3213-400D-A155-997D8EBA3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32000" y="260280"/>
            <a:ext cx="7632720" cy="43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E94AB-0B79-414E-8293-D067316AF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9280" y="439884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DB582-1B3B-4104-B9FB-6A9CFF32E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D68A-C3A6-4B38-ACB1-24E438193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39884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C88E2-6C6C-4B93-BBA0-9A1C7CA71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9280" y="4398840"/>
            <a:ext cx="8785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5837E-CC59-4745-B320-94ECE3B43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9280" y="4398840"/>
            <a:ext cx="8785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F0A90-9625-43F4-BE4C-238226D11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9280" y="439884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39884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20AD4-B5B4-4699-999A-702B823EE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49640" y="191628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20000" y="191628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9280" y="439884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49640" y="439884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20000" y="439884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2AE80-A903-4AB3-8F12-D61D6E52E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CD1D-1899-4C26-8674-957A8FCB7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F66E-DC53-4474-82AD-3636AEE96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950E-EA40-4503-B760-234CF6A79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60280"/>
            <a:ext cx="7632720" cy="43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29D1-B1C3-48DF-ABAB-2CD5B2E41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439884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6F63-8AA1-4BFC-BF08-477FF7E90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39884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A9EE-3E70-4447-898D-4A32DDE5C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4398840"/>
            <a:ext cx="8785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5DDF-ECE0-406B-908B-141D5BFC6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704CC-13C2-4402-8168-CAA95FD3E9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7040" y="4636800"/>
            <a:ext cx="697860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45370-54C3-4671-8762-8264877B12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57040" y="4636800"/>
            <a:ext cx="697860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dependent Stu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050920" y="5641920"/>
            <a:ext cx="696456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ade 1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3164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bonacci numb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yptograph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ic and Ma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terature and Ma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pinski’s Triang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ul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men in Mathematic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eld Medal Winn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48320" y="1916280"/>
            <a:ext cx="43164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os the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ame the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binatoric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mous Mathematicia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istory in Mathematic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arly number syste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mous Problem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mportant Dat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ptember 2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- Topics select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ctober 1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– narrow focu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ctober 2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– Presentation idea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cember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– Final product du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tes for presentation will be assigned on December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et Deadli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ritten report of research findings (minimum 2 page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bliography –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nternet sites visited must be recor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 multiple choice question and one short answer question from your presen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mmary of your presentation – this will be due the day after your present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arking Rubr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adlines – 10 mark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ten report – 20 mark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ibliography – 10 mark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sentation – 35 mark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ummary – 10 mark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estions – 10 mark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w factor – 5 mark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Presentation Dat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cember 5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cember 7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cember 1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cember 13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cember 18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2T22:30:56Z</dcterms:created>
  <dc:creator>nbdoe</dc:creator>
  <dc:description/>
  <cp:keywords/>
  <dc:language>en-US</dc:language>
  <cp:lastModifiedBy>nbdoe</cp:lastModifiedBy>
  <dcterms:modified xsi:type="dcterms:W3CDTF">2007-09-22T22:54:20Z</dcterms:modified>
  <cp:revision>6</cp:revision>
  <dc:subject/>
  <dc:title>Independent Stu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311033</vt:lpwstr>
  </property>
</Properties>
</file>